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3775-9E1B-4A0D-BCB0-F5546EC8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BD45-F8B6-4D56-9F89-12BFC3D1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312E-2285-4079-8253-6CC78F151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F914-8A27-45B0-B891-BD3F1397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5E37-F52F-4FD5-827C-172DB5FBC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D839-CEB7-42AD-B55C-03363F97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B594-01E9-46FD-9662-19967A6E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8D8E-345D-4B93-8C22-CE1FF2A4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253D-87F0-4236-845C-58FB5BED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1939-B3C0-409B-BE13-638981D1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FCFB-6B85-43EB-8B4C-A27107F8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38FD-76CF-493F-9F00-C8DC2D71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4081-09FB-44E2-AE37-04BE5D00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CEBB-FDDE-4BEB-BA25-DB2B17DD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674A-7386-45C9-B20E-FE33A2D1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7D74-0980-4CB8-8C40-27B3A72B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6C45-8348-4AA3-A9ED-0E97BBE91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F2E3-EFC6-4807-8BB6-19C2712C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7ECA-E24C-4719-9295-B27E8511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1C8B-00BD-4809-BB71-8D502DC1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2BE4-E2CE-48F8-84AE-5DA3E4CD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436A-961C-47B8-A7AE-D3AB6115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8CD7-884F-4D90-B053-DB91D8FD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E326-6B62-4621-B2E0-01FC8062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E4CB-B348-4E2E-8E89-9FAEB561E3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66"/>
                </a:solidFill>
                <a:latin typeface="Bodoni MT Black"/>
              </a:rPr>
              <a:t>Click to edit the title text format</a:t>
            </a:r>
            <a:endParaRPr b="0" lang="en-US" sz="8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lides prepared by Cyndi Chie and Sarah Fry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A5B9-FC7B-4870-8A80-F370062BA8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2516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0320" algn="ctr">
              <a:spcBef>
                <a:spcPts val="799"/>
              </a:spcBef>
              <a:buClr>
                <a:srgbClr val="00ffff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754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00640" algn="ctr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00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00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66"/>
                </a:solidFill>
                <a:latin typeface="Bodoni MT Black"/>
              </a:rPr>
              <a:t>A Gift of Fire</a:t>
            </a:r>
            <a:br>
              <a:rPr sz="8000"/>
            </a:br>
            <a:r>
              <a:rPr b="0" lang="en-US" sz="2400" spc="-1" strike="noStrike">
                <a:solidFill>
                  <a:srgbClr val="ffcc66"/>
                </a:solidFill>
                <a:latin typeface="Bodoni MT Black"/>
              </a:rPr>
              <a:t>Third edition</a:t>
            </a:r>
            <a:br>
              <a:rPr sz="2400"/>
            </a:br>
            <a:r>
              <a:rPr b="0" lang="en-US" sz="4800" spc="-1" strike="noStrike">
                <a:solidFill>
                  <a:srgbClr val="ffcc66"/>
                </a:solidFill>
                <a:latin typeface="Bodoni MT Black"/>
              </a:rPr>
              <a:t>Sara Baase</a:t>
            </a:r>
            <a:endParaRPr b="0" lang="en-US" sz="48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pter 5: Cri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Hacking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w: Catching and Punishing Hackers (con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 started with open access as a means of sharing information for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itudes about security were slow to catch up with the ri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ewalls are used to monitor and filter out communication from untrusted sites or that fit a profile of suspicious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ty is often playing catch-up to hackers as new vulnerabilities are discovered and explo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Hacking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w: Catching and Punishing Hackers (con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ibility for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rs have a responsibility to develop with security as a go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es have a responsibility to use security tools and monitor their systems to prevent attacks from succee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e users have a responsibility to ask questions and educate themselves on the tools to maintain security (personal firewalls, anti-virus and anti-spywa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Hacking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Discussion Questions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hacking that does no direct damage or theft a victimless cri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 think hiring former hackers to enhance security is a good idea or a bad idea?  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Identity Theft and Credit Card Fraud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aling Ident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ty Theft –various crimes in which a criminal or large group uses the identity of an unknowing, innocent p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credit/debit card numbers, personal information, and social security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-29 year-olds are the most common victims because they use the web most and are unaware of ri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-commerce has made it easier to steal card numbers and use without having the physical c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Identity Theft and Credit Card Fraud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aling Identities (con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ques used to steal personal and financi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ishing - e-mail fishing for personal and financial information disguised as legitimate business e-m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rming - false Web sites that fish for personal and financial information by planting false URLs in Domain Name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ine resumes and job hunting sites may reveal SSNs, work history, birth dates and other information that can be used in identity the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Identity Theft and Credit Card Fraud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aling Identities (con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ques used to protect personal and financi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ation for new credit c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ailers do not print the full card number and expiration date on receip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ware detects unusual spending activities and will prompt retailers to ask for identifying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s, like PayPal, act as third party allowing a customer to make a purchase without revealing their credit card information to a stran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Identity Theft and Credit Card Fraud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es to Identity Thef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hentication of e-mail and Web 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of encryption to securely store data, so it is useless if sto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henticating customers to prevent use of stolen numbers, may trade convenience for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event information is stolen, a fraud alert can flag your credit report; some businesses will cover the cost of a credit report if your information has been sto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Identity Theft and Credit Card Fraud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metric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logical characteristics unique to an individ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external item (card, keys, etc.) to be sto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in areas where security needs to be high, such as identifying airport person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metrics can be fooled, but more difficult to do so, especially as more sophisticated systems are develo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Identity Theft and Credit Card Fraud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Discussion Questions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steps can you take to protect yourself from identity theft and credit card frau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can you distinguish between an e-mail that is a phishing attempt and an e-mail from a legitimate busin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Scams and Forgery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c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TC reports that online auction sites are one of the top sources of fraud compla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sellers do not send items or send inferior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ll bidding is used to artificially raise pr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lers give themselves or friends glowing reviews to garner consumer tru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ction sites use various techniques to counter dishonest sell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What We Will Cover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ty Theft and Credit Card Fra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ms and Forg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me Fighting Versus Privacy and Civil Lib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ws That Rule the W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Scams and Forgery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fraud - repeated clicking on an ad to either increase a site’s revenue or to use up a competitor's advertising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ck fraud - most common method is to buy a stock low, send out e-mails urging others to buy, and then sell when the price goes up, usually only for a short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al Forgery - new technologies (scanners and high quality printers) are used to create fake checks, passports, visas, birth certificates, etc., with little skill and inves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Crime Fighting Versus Privacy and Civil Liberties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and Seizure of Compute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s a warrant to search and seize a comp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rt rulings inconclusive about whether information found on computers, but not covered by a warrant, is considered in ‘plain view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mated sear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monitor constantly and less likely to miss suspicious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programmed to only look for what is covered in a warr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Crime Fighting Versus Privacy and . . .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ssue of Venu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ges are generally filed where the crime occ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s differ between states and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charges are filed may have significant impact if community standards ap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BI usually files in the state where the crime was discovered and the investigation beg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Crime Fighting Versus Privacy and . . .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bercrime Treat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tional agreement to foster international cooperation among law enforcement agencies of different countries in fighting copyright violations, pornography, fraud, hacking and other online fra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y sets common standards or ways to resolve international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Whose Laws Rule the Web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Digital Actions Cross Bord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s vary from country to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porations that do business in multiple countries must comply with the laws of all the countries invol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one whose actions are legal in their own country may face prosecution in another country where their actions are illeg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Whose Laws Rule the Web (Cont.)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resting Foreign Visito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ussian citizen was arrested for violating the DMCA when he visited the U.S. to present a paper at a conference; his software was not illegal in Rus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xecutive of a British online gambling site was arrested as he transferred planes in Dallas (online sports betting is not illegal in Brit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Whose Laws Rule the Web (Cont.)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bel, Speech and Commercial Law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if something is illegal in both countries, the exact law and associated penalties may v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a trial is held is important not just for differences in the law, but also the costs associated with travel between the countries; cases can take some time to come to trial and may require numerous tr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dom of speech suffers if businesses follow laws of the most restrictive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Whose Laws Rule the Web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Discussion Questions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uggestions do you have for resolving the issues created by differences in laws between different countri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you think would work, and what do you think would no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Hacking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cking – currently defined as to gain illegal or unauthorized access to a file, computer, or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rm has changed over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1: early 1960s to 1970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as a positive te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"hacker" was a creative programmer who wrote elegant or clever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"hack" was an especially clever piece of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Hacking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2: 1970s to mid 1990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cking took on negative conno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king into computers for which the hacker does not have authorized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ll primarily individu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the spreading of computer worms and viruses and ‘phone phreaking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nies began using hackers to analyze and improve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Hacking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3: beginning with the mid 1990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owth of the Web changed hacking; viruses and worms could be spread rapid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tical hacking (Hacktivism) surfa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ial-of-service (DoS) attacks used to shut down Web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scale theft of personal and financial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Hacking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cktivism, or Political Hack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of hacking to promote a political c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greement about whether it is a form of civil disobedience and how (whether) it should be punis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use the appearance of hacktivism to hide other criminal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you determine whether something is hacktivism or simple vandalis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Hacking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w: Catching and Punishing Hacke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86 Congress passed the Computer Fraud and Abuse Act (CFA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vers government computers, financial and medical systems, and activities that involve computers in more than one state, including computers connected to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USA Patriot Act expanded the definition of loss to include the cost of responding to an attack, assessing damage and restoring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Hacking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w: Catching and Punishing Hackers (con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variety of methods for catching hac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enforcement agents read hacker newsletters and participate in chat rooms underco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often track a handle by looking through newsgroup arch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ty professionals set up ‘honey pots’ which are Web sites that attract hackers, to record and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forensics is used to retrieve evidence from compu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Hacking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w: Catching and Punishing Hackers (con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alties for young hac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young hackers have matured and gone on to productive and responsible care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tation to over or under pun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tencing depends on intent and damage d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young hackers receive probation, community service, and/or f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ntil 2000 did a young hacker receive time in juvenile det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0:42:23Z</dcterms:created>
  <dc:creator> </dc:creator>
  <dc:description/>
  <dc:language>en-US</dc:language>
  <cp:lastModifiedBy>Sara</cp:lastModifiedBy>
  <dcterms:modified xsi:type="dcterms:W3CDTF">2007-11-25T02:55:13Z</dcterms:modified>
  <cp:revision>53</cp:revision>
  <dc:subject/>
  <dc:title>         Gift of Fir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21033</vt:lpwstr>
  </property>
</Properties>
</file>